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26.png" ContentType="image/png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7360" y="616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96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 - </a:t>
            </a:r>
            <a:fld id="{1F20959F-B2AD-45E9-B0A4-44B7B5F35A69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6396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 - </a:t>
            </a:r>
            <a:fld id="{0F8D64C7-C8EA-4581-9752-596E49763094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6.wmf"/><Relationship Id="rId1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Exponential and Logarithmic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136600" y="1735200"/>
          <a:ext cx="2268720" cy="96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6600" y="173520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057400" y="2743200"/>
          <a:ext cx="251784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743200"/>
                    <a:ext cx="2517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057400" y="4038480"/>
          <a:ext cx="242424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24242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981080" y="4876920"/>
          <a:ext cx="230040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one-to-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029200" y="1371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029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one-to-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029200" y="1371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911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029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8769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1295280" y="41148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8769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295280" y="4114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508120" cy="2508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47242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114300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508120" cy="250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7242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143000" y="41911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114800" y="40384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pproximate value of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.1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four decimal pla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1.1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85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0.85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.0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pproximate value of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–0.1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four decimal pla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1.1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85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0.85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.0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152280"/>
            <a:ext cx="76201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ompound interest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approximate amount in the account after 5 years if the investment is $1500 at an interest rate of 8.2% compounded quart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2590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2195.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371600" y="4216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2260.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34034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2250.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2271.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7039080" y="-76320"/>
          <a:ext cx="202860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9080" y="-76320"/>
                    <a:ext cx="2028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152280"/>
            <a:ext cx="76201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ompound interest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approximate amount in the account after 5 years if the investment is $1500 at an interest rate of 8.2% compounded quart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590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2195.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371600" y="4216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2260.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4034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2250.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2271.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7039080" y="-76320"/>
          <a:ext cx="202860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9080" y="-76320"/>
                    <a:ext cx="2028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08240" y="34671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15228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a school deposited a $1000 scholarship in an account paying 7.9% interest compounded quarterly. Approximately how much will the scholarship be worth in two years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1169.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37160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1268.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98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1250.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1316.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5228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a school deposited a $1000 scholarship in an account paying 7.9% interest compounded quarterly. Approximately how much will the scholarship be worth in two years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1169.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37160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1268.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98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1250.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1316.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29528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 logarithmic equation:       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178000"/>
            <a:ext cx="5486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447920" y="4311720"/>
            <a:ext cx="655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 =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5378400"/>
            <a:ext cx="701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 logarithmic equation:       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2254320"/>
            <a:ext cx="5486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47920" y="4387680"/>
            <a:ext cx="655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 =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5454720"/>
            <a:ext cx="701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371600" y="2406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n exponential equation:      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5378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n exponential equation:      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1371600" y="3397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n 3 using a calculator. Round to four decimal plac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7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0.085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0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5378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n 3 using a calculator. Round to four decimal plac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7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0.085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0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5378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37160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 0.001. Do not use a calculato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919160" y="1905120"/>
          <a:ext cx="453888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19160" y="1905120"/>
                    <a:ext cx="4538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995480" y="762120"/>
          <a:ext cx="49118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95480" y="762120"/>
                    <a:ext cx="4911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95480" y="2895480"/>
          <a:ext cx="453852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5480" y="2895480"/>
                    <a:ext cx="45385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19160" y="3962520"/>
          <a:ext cx="4818240" cy="62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19160" y="3962520"/>
                    <a:ext cx="4818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843200" y="4800600"/>
          <a:ext cx="5751360" cy="1117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43200" y="4800600"/>
                    <a:ext cx="57513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 0.001. Do not use a calculato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using the change-of-base formul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0.20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1.29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 0.77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1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981080" y="2330280"/>
          <a:ext cx="311400" cy="31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330280"/>
                    <a:ext cx="3114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1981080" y="3321000"/>
          <a:ext cx="311400" cy="31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332100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981080" y="4464000"/>
          <a:ext cx="311400" cy="31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46400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057400" y="5530680"/>
          <a:ext cx="311040" cy="311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57400" y="5530680"/>
                    <a:ext cx="3110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using the change-of-base formul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0.20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 1.29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 0.77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1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1447920" y="43876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981080" y="2330280"/>
          <a:ext cx="311400" cy="31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2330280"/>
                    <a:ext cx="3114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1981080" y="3397320"/>
          <a:ext cx="311400" cy="31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39732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044800" y="4438800"/>
          <a:ext cx="311040" cy="31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44800" y="4438800"/>
                    <a:ext cx="3110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981080" y="5530680"/>
          <a:ext cx="311400" cy="311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5530680"/>
                    <a:ext cx="3114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2286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7920" y="441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335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5486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6502320" y="723960"/>
          <a:ext cx="1435320" cy="121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2320" y="723960"/>
                    <a:ext cx="14353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1981080" y="2133720"/>
          <a:ext cx="251964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2519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2057400" y="3505320"/>
          <a:ext cx="2390760" cy="5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505320"/>
                    <a:ext cx="2390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1981080" y="4343400"/>
          <a:ext cx="2519640" cy="99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343400"/>
                    <a:ext cx="2519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981080" y="5334120"/>
          <a:ext cx="2233800" cy="99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334120"/>
                    <a:ext cx="2233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2286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47920" y="441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35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5486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6502320" y="723960"/>
          <a:ext cx="1435320" cy="121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2320" y="723960"/>
                    <a:ext cx="14353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1981080" y="2133720"/>
          <a:ext cx="251964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2519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057400" y="3505320"/>
          <a:ext cx="2390760" cy="5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505320"/>
                    <a:ext cx="2390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81080" y="4343400"/>
          <a:ext cx="2519640" cy="99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343400"/>
                    <a:ext cx="2519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1981080" y="5334120"/>
          <a:ext cx="2233800" cy="99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334120"/>
                    <a:ext cx="2233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1371600" y="4572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3276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6527880" y="952560"/>
          <a:ext cx="153036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7880" y="952560"/>
                    <a:ext cx="1530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057400" y="2133720"/>
          <a:ext cx="223200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133720"/>
                    <a:ext cx="2232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025720" y="3189240"/>
          <a:ext cx="245412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25720" y="3189240"/>
                    <a:ext cx="2454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1965240" y="4505400"/>
          <a:ext cx="2551320" cy="512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5240" y="4505400"/>
                    <a:ext cx="25513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981080" y="5257800"/>
          <a:ext cx="2521080" cy="99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257800"/>
                    <a:ext cx="2521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3276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6527880" y="952560"/>
          <a:ext cx="153036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7880" y="952560"/>
                    <a:ext cx="1530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2057400" y="2133720"/>
          <a:ext cx="223200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133720"/>
                    <a:ext cx="2232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2025720" y="3189240"/>
          <a:ext cx="245412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25720" y="3189240"/>
                    <a:ext cx="2454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965240" y="4505400"/>
          <a:ext cx="2551320" cy="512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5240" y="4505400"/>
                    <a:ext cx="25513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981080" y="5257800"/>
          <a:ext cx="2521080" cy="99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257800"/>
                    <a:ext cx="2521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= 0.3333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= 1.1950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585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0.86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0.9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19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= 0.3333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= 1.1950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585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0.86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0.9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19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1371600" y="4311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= 0.6826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= 0.8614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01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.22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17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4.6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919160" y="1905120"/>
          <a:ext cx="453888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19160" y="1905120"/>
                    <a:ext cx="4538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95480" y="762120"/>
          <a:ext cx="49118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95480" y="762120"/>
                    <a:ext cx="4911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95480" y="2895480"/>
          <a:ext cx="453852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5480" y="2895480"/>
                    <a:ext cx="45385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919160" y="3962520"/>
          <a:ext cx="4818240" cy="62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19160" y="3962520"/>
                    <a:ext cx="4818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843200" y="4800600"/>
          <a:ext cx="5751360" cy="1117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43200" y="4800600"/>
                    <a:ext cx="57513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= 0.6826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= 0.8614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01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.22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17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4.6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1371600" y="4311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l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l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) –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es not ex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1981080" y="3809880"/>
          <a:ext cx="6224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09880"/>
                    <a:ext cx="6224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) –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es not ex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981080" y="3809880"/>
          <a:ext cx="6224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09880"/>
                    <a:ext cx="6224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13842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981080" y="1600200"/>
          <a:ext cx="34128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0020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1981080" y="1600200"/>
          <a:ext cx="34128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0020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1981080" y="3886200"/>
          <a:ext cx="56052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86200"/>
                    <a:ext cx="5605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1981080" y="3886200"/>
          <a:ext cx="56052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86200"/>
                    <a:ext cx="5605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3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1981080" y="4952880"/>
          <a:ext cx="5288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95288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1981080" y="3886200"/>
          <a:ext cx="52884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88620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2057400" y="1676520"/>
          <a:ext cx="372960" cy="963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1676520"/>
                    <a:ext cx="37296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2057400" y="2819520"/>
          <a:ext cx="496800" cy="96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2819520"/>
                    <a:ext cx="496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843200" y="1905120"/>
          <a:ext cx="48495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3200" y="1905120"/>
                    <a:ext cx="4849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103480" y="762120"/>
          <a:ext cx="46940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762120"/>
                    <a:ext cx="4694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041560" y="5029200"/>
          <a:ext cx="4600440" cy="62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41560" y="5029200"/>
                    <a:ext cx="4600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95480" y="4038480"/>
          <a:ext cx="4849920" cy="62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95480" y="4038480"/>
                    <a:ext cx="48499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19160" y="2666880"/>
          <a:ext cx="5659560" cy="111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19160" y="2666880"/>
                    <a:ext cx="56595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3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1981080" y="4952880"/>
          <a:ext cx="5288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95288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1981080" y="3886200"/>
          <a:ext cx="52884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88620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057400" y="1676520"/>
          <a:ext cx="372960" cy="963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1676520"/>
                    <a:ext cx="37296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2057400" y="2819520"/>
          <a:ext cx="496800" cy="96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2819520"/>
                    <a:ext cx="496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1447920" y="51055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1981080" y="1676520"/>
          <a:ext cx="622440" cy="96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76520"/>
                    <a:ext cx="62244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057400" y="3809880"/>
          <a:ext cx="34128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380988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1949400" y="4952880"/>
          <a:ext cx="588960" cy="96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9400" y="4952880"/>
                    <a:ext cx="5889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1981080" y="1676520"/>
          <a:ext cx="622440" cy="96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76520"/>
                    <a:ext cx="62244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2057400" y="3809880"/>
          <a:ext cx="34128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380988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949400" y="4952880"/>
          <a:ext cx="588960" cy="96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9400" y="4952880"/>
                    <a:ext cx="5889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2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6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.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.4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2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6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.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.4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1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0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.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14.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0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.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14.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,473.53 in 5 years. Find the approximate interes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8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.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4.25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.8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.473.53 in 5 years. Find the approximate interes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8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.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4.25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.8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"/>
          <p:cNvSpPr/>
          <p:nvPr/>
        </p:nvSpPr>
        <p:spPr>
          <a:xfrm>
            <a:off x="1371600" y="38545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.473.53 in 5 years. Find the approximate doubli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7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16.3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4.6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1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843200" y="1905120"/>
          <a:ext cx="48495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3200" y="1905120"/>
                    <a:ext cx="4849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103480" y="762120"/>
          <a:ext cx="46940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762120"/>
                    <a:ext cx="4694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041560" y="5029200"/>
          <a:ext cx="4600440" cy="62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41560" y="5029200"/>
                    <a:ext cx="4600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995480" y="4038480"/>
          <a:ext cx="4849920" cy="62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95480" y="4038480"/>
                    <a:ext cx="48499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919160" y="2666880"/>
          <a:ext cx="5659560" cy="111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19160" y="2666880"/>
                    <a:ext cx="56595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422360" y="51181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.473.53 in 5 years. Find the approximate doubli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7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16.3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4.6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1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"/>
          <p:cNvSpPr/>
          <p:nvPr/>
        </p:nvSpPr>
        <p:spPr>
          <a:xfrm>
            <a:off x="1371600" y="48448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8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10,962.07 in 5 years. Approximate the amount in the account afte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47920" y="2711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$13,924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1447920" y="456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$15,020.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3600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$14,259.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$15,664.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8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10,962.07 in 5 years. Approximate the amount in the account afte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47920" y="2711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$13,924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447920" y="456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$15,020.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47920" y="3600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$14,259.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$15,664.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1371600" y="4692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10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981080" y="1905120"/>
          <a:ext cx="25797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05120"/>
                    <a:ext cx="2579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981080" y="2743200"/>
          <a:ext cx="230040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905120" y="3809880"/>
          <a:ext cx="2455920" cy="962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3809880"/>
                    <a:ext cx="24559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981080" y="4876920"/>
          <a:ext cx="226872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10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1080" y="1905120"/>
          <a:ext cx="25797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05120"/>
                    <a:ext cx="2579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2743200"/>
          <a:ext cx="230040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905120" y="3809880"/>
          <a:ext cx="2455920" cy="962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3809880"/>
                    <a:ext cx="24559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981080" y="4876920"/>
          <a:ext cx="226872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136600" y="1735200"/>
          <a:ext cx="2268720" cy="96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6600" y="173520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057400" y="2743200"/>
          <a:ext cx="251784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743200"/>
                    <a:ext cx="2517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057400" y="4038480"/>
          <a:ext cx="242424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24242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981080" y="4876920"/>
          <a:ext cx="230040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cp:keywords/>
  <dc:language>en-US</dc:language>
  <cp:lastModifiedBy>Jennifer Thomas</cp:lastModifiedBy>
  <dcterms:modified xsi:type="dcterms:W3CDTF">2008-05-28T13:36:12Z</dcterms:modified>
  <cp:revision>213</cp:revision>
  <dc:subject/>
  <dc:title>No Slide Title</dc:title>
</cp:coreProperties>
</file>